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6.wmf" ContentType="image/x-wmf"/>
  <Override PartName="/ppt/media/image9.png" ContentType="image/png"/>
  <Override PartName="/ppt/media/image17.wmf" ContentType="image/x-wmf"/>
  <Override PartName="/ppt/media/image16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2.png" ContentType="image/png"/>
  <Override PartName="/ppt/media/image7.wmf" ContentType="image/x-wmf"/>
  <Override PartName="/ppt/media/image8.png" ContentType="image/png"/>
  <Override PartName="/ppt/media/image1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3E627-66E1-4BB0-AA66-0A66AB8D8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601CE-C6FE-4067-BA67-E01AFF436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A42E65-8D08-4AE6-8EA7-AF83CABA4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BFFDA9-D054-4118-91C1-F827FECFE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17780B-ADEE-4FB6-B862-55862A871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ADE8E1-3BB5-4F52-B4E3-BB0836D96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618592-6F4A-46FF-98C3-C220C52EC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466A3A-5B3B-4440-98D1-729EA5227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DF1AA7-BB07-4971-A615-7477AE553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378038-3D4F-40EA-8879-2267FA62F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883DA4-8B8F-45A3-847B-AFC2722C2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879D51-3ECF-4D58-B4F0-CBA4C1339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DDD7D-F50B-4FCA-949F-A9E9B670F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89AB57-EC46-45CB-B457-67192BFCA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44B1AA-04B2-4CBC-ADFE-BD2EB8099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D3660D-38C4-4828-88C6-37319F1AC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37BF58-30C8-4906-AC23-65881C08B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F4302B-6502-490D-87D1-C23C4B05F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42CE19-6A95-45AA-B8F5-73D76B58A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F4C56D-EF25-42DC-BFB4-31AAAD2BF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90E681-A1F5-45EE-8163-D774E5DF8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B4CAE1-E541-48C4-B71A-1E0BFA9B7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66AD8D-3956-41AA-9DFC-355CBB9FB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FC75E-770B-4EAF-A126-25D44865F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66F656-62FD-4479-BE48-4A460B871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D7A11E-2D47-483D-9481-704F3861F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55E0D7-49A8-4C10-B1CA-D93017727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715A87-48B8-47E8-8134-FE59CFDD6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F3039A-7CD8-47C4-BCCE-4AA92B824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2F8981-C71D-4026-9FE9-BD5AC1C82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153F65-3828-4DC5-9D27-C4A04440E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F83DDB-B083-4531-8A43-B0D62E1E6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C6C7B3-B54C-4646-B37C-2964D5F6C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3DDC2B-D8B9-4833-8372-CA840660C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7D74C-21DD-4490-BB1B-273C4B2B0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0B4FEE-E6AD-4832-A736-99284A340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ECE837-B55B-48DA-B4F7-E16B389AC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CC4F6D-414E-429A-80AB-989136DC7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313BEC-ED00-4CD9-B6F2-D649723FB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3CC3D8-11AB-41B6-8546-70E4E25DD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5C4746-C957-46F2-81B3-DED713DFE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6CA725-2F45-44B6-9F18-28967B0EF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55A6D2-69A6-4A22-8A08-E674B097C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2EFB27-3B62-4BA7-AE3E-0CBB16D24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EC456A-26FA-4AC4-A142-2C0089D9A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B17FA-DB2D-4335-9B15-F08F36A3E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DC4174-33A8-4348-B46E-0D507D904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88F1E1-7AAC-4358-86DC-AB44D32FB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B603F6-5BFF-4B8A-A231-E4B2E03BD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8D62AC-62F9-46D3-8576-FCB2CAB48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33084B-1A23-41B1-A92E-CA187CCB5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D56A7-933E-4515-907E-FCA5678B4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7535C-6759-4669-A61F-3A20FA3AC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8EE5C-77C9-4B0F-BAB4-D9B1317FD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0E6AC-0010-4CB6-A4AB-95DAA2809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C7CA4-DE8B-4A54-8028-CEEA2F469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6EEB6-5107-4A5F-A395-8A68F6FE4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59EC7-5301-4EE4-8384-A6E64288D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42592-01B4-430A-8FAB-33D6C2D8D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D3DD0-3BE2-44C2-82CD-FB1D34252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A0B18-4DDE-4FC4-B9DD-9B29EB173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670EB-FB39-472A-8A2C-DAA2FC249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6690BC-9707-459E-8D6E-D009149B5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F67C8A-1F45-45A6-BD3F-C67BBF2DA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A605B9-B282-48BD-8651-6AAE054DE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4C004B-65C7-499A-BCD1-CEFFCB549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319DF9-EB61-4FFE-B5B6-54DD41130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2CB63-0207-4947-A15A-285CBEE72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BA650F-C0C8-4C9E-9DF2-A59F2D8D4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04DFE4-D87F-4F54-9F94-AFB42A1DE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182A41-4B2D-499D-ACA2-6F67042A0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3D14BC-09F9-456D-95D2-AB1F1C467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7E1665-E853-4CDD-B1D2-ABD5C300F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3077F0-984C-41A0-8098-B03B56995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74F3E6-0715-430B-9C80-E24F890FD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1DE98A-ECFF-4831-9C1C-3E4C917C1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EA44A7-6710-4B2E-ADFF-E1C22739C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728D71-EF7A-40D8-93A3-3A60C96A2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30F06-79C6-4507-BC84-F1C3924B0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6B09E1-8D19-4BED-9983-517BA82D4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5DF397-C180-4570-83F4-3088D8A74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F61A9A-7D49-45E6-ACE9-B3E5913A0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3BAF47-7467-4DEE-953C-627E19B92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7FDD75-49DF-4D6D-8F80-6F4D0EED0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D266C2-952D-4825-B209-5EF710CD7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9D700F-EAF6-4EA2-88B6-0BA27E457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C820F2-8F1A-4DB8-B46A-702D063FA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72167E-0301-4205-831E-2BFBDFFCB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E2B288-8C83-43D7-87A6-BEC61E1A7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24CED-9961-4565-8C6E-C0F5EF6DE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780BF8-80EF-4D50-A761-BEDEB4865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A64B00-57B1-4D0E-A1E9-8C7587642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BA47C3-835B-4574-8CE7-9AB7EA9FC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AED62A-F07C-4AEF-A322-69E6987A0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A1E05C-A66A-4F85-A9D9-D60869584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E1B39A-2164-44ED-A09F-178886366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842942-9588-4ADC-B62D-0F1DBE744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A24D2C-1E29-4D49-9FA9-DE5517D46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B5F3AC-0329-4A9F-A211-F34A5AE31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269FBA-172B-46CC-8CC8-53A0747DD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9FE25-292D-4D97-AFCD-D86A803FA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295C1E-6AE5-4D09-95C7-C2F8D1FC9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70C887-BCAD-42C5-AD64-5377F2A04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E3E6F1-0B59-408D-B0AA-B3277C975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AAD120-AEF0-4267-B14C-61C2BFBC7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9FC75F-2194-4C13-86FF-A2BCE06E4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D23360-F73C-4548-AB83-158B922FD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0E6F68-078C-4090-A1BE-9F1173C3F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7AD35D-2E1C-41B7-BCB4-88DA48752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6BB774-EAF0-47C9-9B86-97D22265F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02C92B-3CCF-4035-A0B1-645A6B682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4D468-5348-4CD8-BE17-55AC8714F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412595-49D0-4232-B901-67B1E8954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337205-2E68-4AF9-B0E2-957ED1EEB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40BB58-A607-4446-86EF-11B874A77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26C391-8F02-4AAC-8CD4-46C25A66F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4DFACB-BD9F-4779-A675-D3D292139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33DFFB-32CA-4445-B905-41501D543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1A4666-9A00-48F4-9E9C-A160075A4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1DBB64-BD93-4CA8-89BD-3A5871197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FDFF97-B78F-410A-AC73-643FE97F9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588BCE-E849-468E-B27C-39C15F0E4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3651F-FF87-4B97-97DF-1BED6F99A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FC9C62-3199-4CAF-A271-0F3ABA7C0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50B891-94DD-4550-B9E8-309F975BE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AB3E5A-8E18-49D0-88B0-BDF77E19F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BAA4EA-B8B4-4F96-8DBD-8222D5014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80CF32-0C59-4135-93E9-1BEC39068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CADFB6-6072-4597-8763-A56E3CA50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A87452-27BD-439F-A9C6-48320F266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527D2F-6A25-464F-A118-2FE233BDE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75274F-DDB9-4340-A349-731B2C0A5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CB156A-F259-4DEF-8A55-B656E4AAF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61197-12D0-4F2F-B565-09173A3DA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06B78E-A956-44CC-B1E8-8C1FFA1A0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2AB8A3-C774-423A-BF79-E06C1F77C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95D6A5-3FB1-471B-8B62-CB58AA8A0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A5EE16-687F-4224-B0F2-9CBE4CF1C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4FE9A8-E271-49D2-8590-D2958E8A4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499992-154F-4557-A807-ED15955F5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D2E71D-7733-49DD-9E18-DD9D87DC5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34CE96-BBE5-4DF2-A5FF-F613EF0F9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82B73E-0EB0-4C4F-9ED9-3EA1CC776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171CD9-0F5A-4412-A9A3-AC25ED225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E2C78-A5D9-41D8-83D1-E11E1860C40F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Slika 6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Slika 6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pic>
        <p:nvPicPr>
          <p:cNvPr id="387" name="Slika 7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0EF3C-CDA5-4EA3-9C92-EB4353F1DB4F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Slika 6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pic>
        <p:nvPicPr>
          <p:cNvPr id="430" name="Slika 7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528A9-50A7-43D6-8A1C-363A3F5D551A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2" name="Slika 6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pic>
        <p:nvPicPr>
          <p:cNvPr id="473" name="Slika 7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A4695-6596-4CCE-8000-018B66C34C82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Slika 6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pic>
        <p:nvPicPr>
          <p:cNvPr id="43" name="Slika 7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7C694-4B8D-42A4-BE33-7AEF404BE31E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Slika 6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pic>
        <p:nvPicPr>
          <p:cNvPr id="86" name="Slika 7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00CE2-3B4B-4BD8-8F8B-F5CEB24E33B8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Slika 6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pic>
        <p:nvPicPr>
          <p:cNvPr id="129" name="Slika 7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7D018-3B1F-4714-A70C-AE403E2B546E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Slika 6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pic>
        <p:nvPicPr>
          <p:cNvPr id="172" name="Slika 7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8158F-EF33-4741-99CB-85B044F98564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Slika 6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pic>
        <p:nvPicPr>
          <p:cNvPr id="215" name="Slika 7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3B625-FDBB-4315-A2DF-CD17493C6620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Slika 6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pic>
        <p:nvPicPr>
          <p:cNvPr id="258" name="Slika 7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C4029-619B-425C-8CDC-0F35EF136995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Slika 6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pic>
        <p:nvPicPr>
          <p:cNvPr id="301" name="Slika 7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043E7-94E6-482B-8B2A-CDE021C3955E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Slika 6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pic>
        <p:nvPicPr>
          <p:cNvPr id="344" name="Slika 7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2CE03-D9C8-4369-8919-7B318CE873B0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7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c3324"/>
                </a:solidFill>
                <a:latin typeface="Arial"/>
                <a:ea typeface="Arial"/>
              </a:rPr>
              <a:t>Kako određujemo gustoć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subTitle"/>
          </p:nvPr>
        </p:nvSpPr>
        <p:spPr>
          <a:xfrm>
            <a:off x="4648320" y="5714640"/>
            <a:ext cx="449568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3324"/>
                </a:solidFill>
                <a:latin typeface="Arial"/>
                <a:ea typeface="Arial"/>
              </a:rPr>
              <a:t>Tijela i tvar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4920" y="809640"/>
            <a:ext cx="822960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3324"/>
                </a:solidFill>
                <a:latin typeface="Arial"/>
                <a:ea typeface="Arial"/>
              </a:rPr>
              <a:t>Gustoće tvar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0" name="Picture 2" descr=""/>
          <p:cNvPicPr/>
          <p:nvPr/>
        </p:nvPicPr>
        <p:blipFill>
          <a:blip r:embed="rId1"/>
          <a:srcRect l="0" t="0" r="0" b="44917"/>
          <a:stretch/>
        </p:blipFill>
        <p:spPr>
          <a:xfrm>
            <a:off x="1447920" y="1447920"/>
            <a:ext cx="2438280" cy="4800600"/>
          </a:xfrm>
          <a:prstGeom prst="rect">
            <a:avLst/>
          </a:prstGeom>
          <a:ln w="0">
            <a:noFill/>
          </a:ln>
        </p:spPr>
      </p:pic>
      <p:pic>
        <p:nvPicPr>
          <p:cNvPr id="551" name="Picture 2" descr=""/>
          <p:cNvPicPr/>
          <p:nvPr/>
        </p:nvPicPr>
        <p:blipFill>
          <a:blip r:embed="rId2"/>
          <a:srcRect l="0" t="55087" r="0" b="0"/>
          <a:stretch/>
        </p:blipFill>
        <p:spPr>
          <a:xfrm>
            <a:off x="4952880" y="2133720"/>
            <a:ext cx="2238480" cy="39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TextBox 4"/>
          <p:cNvSpPr/>
          <p:nvPr/>
        </p:nvSpPr>
        <p:spPr>
          <a:xfrm>
            <a:off x="1475640" y="1295280"/>
            <a:ext cx="534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Kako odrediti gustoću kamena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Box 6"/>
          <p:cNvSpPr/>
          <p:nvPr/>
        </p:nvSpPr>
        <p:spPr>
          <a:xfrm>
            <a:off x="901080" y="4500720"/>
            <a:ext cx="7401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just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Izmjeriti masu kamena </a:t>
            </a:r>
            <a:r>
              <a:rPr b="1" i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r>
              <a:rPr b="0" i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( vaga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Izmjeriti volumena kamena </a:t>
            </a:r>
            <a:r>
              <a:rPr b="1" i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V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 ( menzura 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Izračunati kvocijent mase </a:t>
            </a:r>
            <a:r>
              <a:rPr b="1" i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 i volumena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kame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4" name="Picture 9" descr=""/>
          <p:cNvPicPr/>
          <p:nvPr/>
        </p:nvPicPr>
        <p:blipFill>
          <a:blip r:embed="rId1"/>
          <a:stretch/>
        </p:blipFill>
        <p:spPr>
          <a:xfrm>
            <a:off x="380880" y="838080"/>
            <a:ext cx="1219320" cy="373320"/>
          </a:xfrm>
          <a:prstGeom prst="rect">
            <a:avLst/>
          </a:prstGeom>
          <a:ln w="0">
            <a:noFill/>
          </a:ln>
        </p:spPr>
      </p:pic>
      <p:pic>
        <p:nvPicPr>
          <p:cNvPr id="555" name="Picture 2" descr=""/>
          <p:cNvPicPr/>
          <p:nvPr/>
        </p:nvPicPr>
        <p:blipFill>
          <a:blip r:embed="rId2"/>
          <a:stretch/>
        </p:blipFill>
        <p:spPr>
          <a:xfrm>
            <a:off x="2057400" y="2057400"/>
            <a:ext cx="4343400" cy="243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fc3324"/>
                </a:solidFill>
                <a:latin typeface="Arial"/>
                <a:ea typeface="Arial"/>
              </a:rPr>
              <a:t>    </a:t>
            </a:r>
            <a:r>
              <a:rPr b="0" lang="hr-HR" sz="3600" spc="-1" strike="noStrike">
                <a:solidFill>
                  <a:srgbClr val="fc3324"/>
                </a:solidFill>
                <a:latin typeface="Arial"/>
                <a:ea typeface="Arial"/>
              </a:rPr>
              <a:t>Gustoća tekućin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7" name="Picture 5" descr="areometar i termometar"/>
          <p:cNvPicPr/>
          <p:nvPr/>
        </p:nvPicPr>
        <p:blipFill>
          <a:blip r:embed="rId1"/>
          <a:stretch/>
        </p:blipFill>
        <p:spPr>
          <a:xfrm>
            <a:off x="1143000" y="1143000"/>
            <a:ext cx="1854360" cy="4330800"/>
          </a:xfrm>
          <a:prstGeom prst="rect">
            <a:avLst/>
          </a:prstGeom>
          <a:ln w="0">
            <a:noFill/>
          </a:ln>
        </p:spPr>
      </p:pic>
      <p:sp>
        <p:nvSpPr>
          <p:cNvPr id="558" name="Text Box 6"/>
          <p:cNvSpPr/>
          <p:nvPr/>
        </p:nvSpPr>
        <p:spPr>
          <a:xfrm>
            <a:off x="3805200" y="5715000"/>
            <a:ext cx="158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Plivanje leda na vod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9" name="Picture 7" descr="voda_water_casa_shutter"/>
          <p:cNvPicPr/>
          <p:nvPr/>
        </p:nvPicPr>
        <p:blipFill>
          <a:blip r:embed="rId2"/>
          <a:stretch/>
        </p:blipFill>
        <p:spPr>
          <a:xfrm>
            <a:off x="3733920" y="2819520"/>
            <a:ext cx="4047840" cy="2619360"/>
          </a:xfrm>
          <a:prstGeom prst="rect">
            <a:avLst/>
          </a:prstGeom>
          <a:ln w="0">
            <a:noFill/>
          </a:ln>
        </p:spPr>
      </p:pic>
      <p:sp>
        <p:nvSpPr>
          <p:cNvPr id="560" name="Text Box 8"/>
          <p:cNvSpPr/>
          <p:nvPr/>
        </p:nvSpPr>
        <p:spPr>
          <a:xfrm>
            <a:off x="744120" y="5672160"/>
            <a:ext cx="1674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Areometri za mjerenj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gustoće tekući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TextBox 3"/>
          <p:cNvSpPr/>
          <p:nvPr/>
        </p:nvSpPr>
        <p:spPr>
          <a:xfrm>
            <a:off x="-110520" y="1981080"/>
            <a:ext cx="9194040" cy="41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Što je gustoća? Kako označujemo gustoću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Koje se mjerne jedinice </a:t>
            </a:r>
            <a:r>
              <a:rPr b="0" lang="hr-HR" sz="2200" spc="-1" strike="noStrike">
                <a:solidFill>
                  <a:srgbClr val="000000"/>
                </a:solidFill>
                <a:latin typeface="Arial"/>
                <a:ea typeface="Arial"/>
              </a:rPr>
              <a:t>korist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za gustoću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  <a:ea typeface="Arial"/>
              </a:rPr>
              <a:t>Što znači kada kažemo da tijelo ima gustoću 270kg/m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³</a:t>
            </a:r>
            <a:r>
              <a:rPr b="0" lang="hr-HR" sz="22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Zašto kockice leda ne tonu u čaši s vodom?</a:t>
            </a:r>
            <a:r>
              <a:rPr b="0" lang="hr-HR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hr-HR" sz="2200" spc="-1" strike="noStrike">
                <a:solidFill>
                  <a:srgbClr val="000000"/>
                </a:solidFill>
                <a:latin typeface="Arial"/>
                <a:ea typeface="Arial"/>
              </a:rPr>
              <a:t>Što zaključuješ o odnosu gustoće leda i vod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  <a:ea typeface="Arial"/>
              </a:rPr>
              <a:t>5.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Pretvori: a) 13,6 g/cm³ u kg/m³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b)  7 800 kg/m³ u g/cm³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  <a:ea typeface="Arial"/>
              </a:rPr>
              <a:t>6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.    Kolika je gustoća kockice leda </a:t>
            </a:r>
            <a:r>
              <a:rPr b="0" lang="hr-HR" sz="2200" spc="-1" strike="noStrike">
                <a:solidFill>
                  <a:srgbClr val="000000"/>
                </a:solidFill>
                <a:latin typeface="Arial"/>
                <a:ea typeface="Arial"/>
              </a:rPr>
              <a:t>volumena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5 cm³ i mase 4,</a:t>
            </a:r>
            <a:r>
              <a:rPr b="0" lang="hr-HR" sz="22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g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2" name="Slika 2" descr=""/>
          <p:cNvPicPr/>
          <p:nvPr/>
        </p:nvPicPr>
        <p:blipFill>
          <a:blip r:embed="rId1"/>
          <a:stretch/>
        </p:blipFill>
        <p:spPr>
          <a:xfrm>
            <a:off x="685800" y="914400"/>
            <a:ext cx="340056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7" name="Picture 3" descr=""/>
          <p:cNvPicPr/>
          <p:nvPr/>
        </p:nvPicPr>
        <p:blipFill>
          <a:blip r:embed="rId1"/>
          <a:srcRect l="0" t="0" r="59634" b="0"/>
          <a:stretch/>
        </p:blipFill>
        <p:spPr>
          <a:xfrm>
            <a:off x="304920" y="1143000"/>
            <a:ext cx="2971800" cy="380880"/>
          </a:xfrm>
          <a:prstGeom prst="rect">
            <a:avLst/>
          </a:prstGeom>
          <a:ln w="0">
            <a:noFill/>
          </a:ln>
        </p:spPr>
      </p:pic>
      <p:sp>
        <p:nvSpPr>
          <p:cNvPr id="518" name="TextBox 4"/>
          <p:cNvSpPr/>
          <p:nvPr/>
        </p:nvSpPr>
        <p:spPr>
          <a:xfrm>
            <a:off x="609480" y="1828800"/>
            <a:ext cx="73915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Zašto je lakše plivati u moru nego u jezeru ili rijeci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Zašto ulje pliva na vodi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Zašto neka tijela tonu, a neka n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9" name="Picture 6" descr=""/>
          <p:cNvPicPr/>
          <p:nvPr/>
        </p:nvPicPr>
        <p:blipFill>
          <a:blip r:embed="rId2"/>
          <a:stretch/>
        </p:blipFill>
        <p:spPr>
          <a:xfrm>
            <a:off x="6324480" y="2438280"/>
            <a:ext cx="1758960" cy="37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4"/>
          <p:cNvSpPr/>
          <p:nvPr/>
        </p:nvSpPr>
        <p:spPr>
          <a:xfrm>
            <a:off x="304920" y="1447920"/>
            <a:ext cx="32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Što je gustoća tijel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Picture 7" descr=""/>
          <p:cNvPicPr/>
          <p:nvPr/>
        </p:nvPicPr>
        <p:blipFill>
          <a:blip r:embed="rId1"/>
          <a:stretch/>
        </p:blipFill>
        <p:spPr>
          <a:xfrm>
            <a:off x="685800" y="2209680"/>
            <a:ext cx="2743200" cy="2700360"/>
          </a:xfrm>
          <a:prstGeom prst="rect">
            <a:avLst/>
          </a:prstGeom>
          <a:ln w="0">
            <a:noFill/>
          </a:ln>
        </p:spPr>
      </p:pic>
      <p:sp>
        <p:nvSpPr>
          <p:cNvPr id="522" name="TextBox 4"/>
          <p:cNvSpPr/>
          <p:nvPr/>
        </p:nvSpPr>
        <p:spPr>
          <a:xfrm>
            <a:off x="380880" y="5105520"/>
            <a:ext cx="122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1800" spc="-1" strike="noStrike">
                <a:solidFill>
                  <a:srgbClr val="000000"/>
                </a:solidFill>
                <a:latin typeface="Calibri"/>
              </a:rPr>
              <a:t>V₁ =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8</a:t>
            </a:r>
            <a:r>
              <a:rPr b="0" lang="hr-HR" sz="1800" spc="-1" strike="noStrike">
                <a:solidFill>
                  <a:srgbClr val="000000"/>
                </a:solidFill>
                <a:latin typeface="Calibri"/>
              </a:rPr>
              <a:t> cm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1800" spc="-1" strike="noStrike">
                <a:solidFill>
                  <a:srgbClr val="000000"/>
                </a:solidFill>
                <a:latin typeface="Calibri"/>
              </a:rPr>
              <a:t>m₁ =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1,6</a:t>
            </a:r>
            <a:r>
              <a:rPr b="0" i="1" lang="hr-HR" sz="1800" spc="-1" strike="noStrike">
                <a:solidFill>
                  <a:srgbClr val="000000"/>
                </a:solidFill>
                <a:latin typeface="Calibri"/>
              </a:rPr>
              <a:t> 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kock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Box 7"/>
          <p:cNvSpPr/>
          <p:nvPr/>
        </p:nvSpPr>
        <p:spPr>
          <a:xfrm>
            <a:off x="2066040" y="5105520"/>
            <a:ext cx="124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1800" spc="-1" strike="noStrike">
                <a:solidFill>
                  <a:srgbClr val="000000"/>
                </a:solidFill>
                <a:latin typeface="Calibri"/>
              </a:rPr>
              <a:t>V₂</a:t>
            </a:r>
            <a:r>
              <a:rPr b="0" lang="hr-HR" sz="1800" spc="-1" strike="noStrike">
                <a:solidFill>
                  <a:srgbClr val="000000"/>
                </a:solidFill>
                <a:latin typeface="Calibri"/>
              </a:rPr>
              <a:t> = 2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hr-HR" sz="1800" spc="-1" strike="noStrike">
                <a:solidFill>
                  <a:srgbClr val="000000"/>
                </a:solidFill>
                <a:latin typeface="Calibri"/>
              </a:rPr>
              <a:t> cm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1800" spc="-1" strike="noStrike">
                <a:solidFill>
                  <a:srgbClr val="000000"/>
                </a:solidFill>
                <a:latin typeface="Calibri"/>
              </a:rPr>
              <a:t>m₂</a:t>
            </a:r>
            <a:r>
              <a:rPr b="0" lang="hr-HR" sz="18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64</a:t>
            </a:r>
            <a:r>
              <a:rPr b="0" lang="hr-HR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8</a:t>
            </a:r>
            <a:r>
              <a:rPr b="0" lang="hr-HR" sz="1800" spc="-1" strike="noStrike">
                <a:solidFill>
                  <a:srgbClr val="000000"/>
                </a:solidFill>
                <a:latin typeface="Calibri"/>
              </a:rPr>
              <a:t> 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kvadar </a:t>
            </a:r>
            <a:r>
              <a:rPr b="0" i="1" lang="hr-HR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TextBox 10"/>
          <p:cNvSpPr/>
          <p:nvPr/>
        </p:nvSpPr>
        <p:spPr>
          <a:xfrm>
            <a:off x="4208040" y="2743200"/>
            <a:ext cx="479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Odredimo kvocijent mase i volume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5" name="Object 7"/>
              <p:cNvSpPr txBox="1"/>
              <p:nvPr/>
            </p:nvSpPr>
            <p:spPr>
              <a:xfrm>
                <a:off x="5562720" y="3733920"/>
                <a:ext cx="1692000" cy="99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V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,7</m:t>
                    </m:r>
                    <m:f>
                      <m:num>
                        <m:r>
                          <m:t xml:space="preserve">g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m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526" name="Slika 8" descr=""/>
          <p:cNvPicPr/>
          <p:nvPr/>
        </p:nvPicPr>
        <p:blipFill>
          <a:blip r:embed="rId2"/>
          <a:stretch/>
        </p:blipFill>
        <p:spPr>
          <a:xfrm>
            <a:off x="395280" y="973080"/>
            <a:ext cx="1357200" cy="6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4920" y="685440"/>
            <a:ext cx="8229600" cy="47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3324"/>
                </a:solidFill>
                <a:latin typeface="Arial"/>
                <a:ea typeface="Arial"/>
              </a:rPr>
              <a:t>Gustoća tijel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TextBox 4"/>
          <p:cNvSpPr/>
          <p:nvPr/>
        </p:nvSpPr>
        <p:spPr>
          <a:xfrm>
            <a:off x="533520" y="1676520"/>
            <a:ext cx="8001000" cy="2837160"/>
          </a:xfrm>
          <a:prstGeom prst="rect">
            <a:avLst/>
          </a:prstGeom>
          <a:solidFill>
            <a:srgbClr val="fdeada"/>
          </a:solidFill>
          <a:ln w="9360">
            <a:solidFill>
              <a:srgbClr val="fcd5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Kvocijent mase i volumena za svako tijelo načinje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od iste tvari ima jednaku vrijedno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ustoća je svojstvo tvari od koje je tijelo načinjen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9" name="Group 7"/>
          <p:cNvGrpSpPr/>
          <p:nvPr/>
        </p:nvGrpSpPr>
        <p:grpSpPr>
          <a:xfrm>
            <a:off x="547920" y="1219320"/>
            <a:ext cx="2730240" cy="2593440"/>
            <a:chOff x="547920" y="1219320"/>
            <a:chExt cx="2730240" cy="2593440"/>
          </a:xfrm>
        </p:grpSpPr>
        <mc:AlternateContent>
          <mc:Choice xmlns:a14="http://schemas.microsoft.com/office/drawing/2010/main" Requires="a14">
            <p:sp>
              <p:nvSpPr>
                <p:cNvPr id="530" name="Object 2"/>
                <p:cNvSpPr txBox="1"/>
                <p:nvPr/>
              </p:nvSpPr>
              <p:spPr>
                <a:xfrm>
                  <a:off x="990720" y="1219320"/>
                  <a:ext cx="2000160" cy="1773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ρ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m</m:t>
                          </m:r>
                        </m:num>
                        <m:den>
                          <m:r>
                            <m:t xml:space="preserve">V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531" name="TextBox 6"/>
            <p:cNvSpPr/>
            <p:nvPr/>
          </p:nvSpPr>
          <p:spPr>
            <a:xfrm>
              <a:off x="547920" y="3048480"/>
              <a:ext cx="2730240" cy="764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znaka za gustoću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grčko slovo  </a:t>
              </a:r>
              <a:r>
                <a:rPr b="0" lang="el-GR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ρ</a:t>
              </a:r>
              <a:r>
                <a:rPr b="0" lang="hr-HR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( ro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2" name="TextBox 9"/>
          <p:cNvSpPr/>
          <p:nvPr/>
        </p:nvSpPr>
        <p:spPr>
          <a:xfrm>
            <a:off x="787320" y="4495680"/>
            <a:ext cx="5538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jerna  j</a:t>
            </a:r>
            <a:r>
              <a:rPr b="0" i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edinica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za </a:t>
            </a:r>
            <a:r>
              <a:rPr b="0" i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 gustoć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</a:t>
            </a:r>
            <a:r>
              <a:rPr b="0" i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kg / m³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- kilogram po ku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čnom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met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g / cm³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- gram po ku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čnom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centimet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TextBox 10"/>
          <p:cNvSpPr/>
          <p:nvPr/>
        </p:nvSpPr>
        <p:spPr>
          <a:xfrm>
            <a:off x="4829040" y="2514600"/>
            <a:ext cx="3629520" cy="520560"/>
          </a:xfrm>
          <a:prstGeom prst="rect">
            <a:avLst/>
          </a:prstGeom>
          <a:solidFill>
            <a:srgbClr val="fdeada"/>
          </a:solidFill>
          <a:ln w="9360">
            <a:solidFill>
              <a:srgbClr val="fcd5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1 g / cm³ = 1000 kg / m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TextBox 2"/>
          <p:cNvSpPr/>
          <p:nvPr/>
        </p:nvSpPr>
        <p:spPr>
          <a:xfrm>
            <a:off x="573840" y="1828800"/>
            <a:ext cx="8292960" cy="1191240"/>
          </a:xfrm>
          <a:prstGeom prst="rect">
            <a:avLst/>
          </a:prstGeom>
          <a:solidFill>
            <a:srgbClr val="fde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olika je masa vode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volum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 L ako znamo da je gustoć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vode 1 000 kg/m³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Content Placeholder 2"/>
          <p:cNvSpPr/>
          <p:nvPr/>
        </p:nvSpPr>
        <p:spPr>
          <a:xfrm>
            <a:off x="990720" y="3352680"/>
            <a:ext cx="7186320" cy="2071800"/>
          </a:xfrm>
          <a:prstGeom prst="rect">
            <a:avLst/>
          </a:prstGeom>
          <a:solidFill>
            <a:srgbClr val="ffffff"/>
          </a:solidFill>
          <a:ln w="9360">
            <a:solidFill>
              <a:srgbClr val="fcd5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V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= 1 L = 1 dm³ = 0, 001 m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r>
              <a:rPr b="0" i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ρ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i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V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 = 1000 kg /m³· 0,001 m³ = 1 k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Obujam vode od 1 L ima masu 1 k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6" name="Slika 1" descr=""/>
          <p:cNvPicPr/>
          <p:nvPr/>
        </p:nvPicPr>
        <p:blipFill>
          <a:blip r:embed="rId1"/>
          <a:stretch/>
        </p:blipFill>
        <p:spPr>
          <a:xfrm>
            <a:off x="534960" y="1278000"/>
            <a:ext cx="1015920" cy="31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4"/>
          <p:cNvSpPr/>
          <p:nvPr/>
        </p:nvSpPr>
        <p:spPr>
          <a:xfrm>
            <a:off x="304920" y="129528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ako se odnose mase dvaju tijela različitih gustoća, 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jednkih obujmov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Rectangle 8"/>
          <p:cNvSpPr/>
          <p:nvPr/>
        </p:nvSpPr>
        <p:spPr>
          <a:xfrm>
            <a:off x="609480" y="4800600"/>
            <a:ext cx="7772400" cy="1191240"/>
          </a:xfrm>
          <a:prstGeom prst="rect">
            <a:avLst/>
          </a:prstGeom>
          <a:solidFill>
            <a:srgbClr val="fdeada"/>
          </a:solidFill>
          <a:ln w="9360">
            <a:solidFill>
              <a:srgbClr val="fcd5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d dva tijela jednakih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volum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veću masu ima    ono veće gustoć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Picture 2" descr=""/>
          <p:cNvPicPr/>
          <p:nvPr/>
        </p:nvPicPr>
        <p:blipFill>
          <a:blip r:embed="rId1"/>
          <a:stretch/>
        </p:blipFill>
        <p:spPr>
          <a:xfrm>
            <a:off x="3048120" y="2590920"/>
            <a:ext cx="2743200" cy="2082600"/>
          </a:xfrm>
          <a:prstGeom prst="rect">
            <a:avLst/>
          </a:prstGeom>
          <a:ln w="0">
            <a:noFill/>
          </a:ln>
        </p:spPr>
      </p:pic>
      <p:pic>
        <p:nvPicPr>
          <p:cNvPr id="540" name="Slika 5" descr=""/>
          <p:cNvPicPr/>
          <p:nvPr/>
        </p:nvPicPr>
        <p:blipFill>
          <a:blip r:embed="rId2"/>
          <a:stretch/>
        </p:blipFill>
        <p:spPr>
          <a:xfrm>
            <a:off x="457200" y="868320"/>
            <a:ext cx="1357200" cy="66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4"/>
          <p:cNvSpPr/>
          <p:nvPr/>
        </p:nvSpPr>
        <p:spPr>
          <a:xfrm>
            <a:off x="304920" y="129528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ako se odnose obujmovi dvaju tijela različitih gustoća, a jednakih mas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Rectangle 8"/>
          <p:cNvSpPr/>
          <p:nvPr/>
        </p:nvSpPr>
        <p:spPr>
          <a:xfrm>
            <a:off x="609480" y="4800600"/>
            <a:ext cx="7772400" cy="1191240"/>
          </a:xfrm>
          <a:prstGeom prst="rect">
            <a:avLst/>
          </a:prstGeom>
          <a:solidFill>
            <a:srgbClr val="fdeada"/>
          </a:solidFill>
          <a:ln w="9360">
            <a:solidFill>
              <a:srgbClr val="fcd5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d dva tijela jednakih masa, veći obujam  ima tijelo  manje  gustoć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3" name="Picture 2" descr=""/>
          <p:cNvPicPr/>
          <p:nvPr/>
        </p:nvPicPr>
        <p:blipFill>
          <a:blip r:embed="rId1"/>
          <a:stretch/>
        </p:blipFill>
        <p:spPr>
          <a:xfrm>
            <a:off x="3200400" y="2438280"/>
            <a:ext cx="2724120" cy="2094120"/>
          </a:xfrm>
          <a:prstGeom prst="rect">
            <a:avLst/>
          </a:prstGeom>
          <a:ln w="0">
            <a:noFill/>
          </a:ln>
        </p:spPr>
      </p:pic>
      <p:pic>
        <p:nvPicPr>
          <p:cNvPr id="544" name="Slika 5" descr=""/>
          <p:cNvPicPr/>
          <p:nvPr/>
        </p:nvPicPr>
        <p:blipFill>
          <a:blip r:embed="rId2"/>
          <a:stretch/>
        </p:blipFill>
        <p:spPr>
          <a:xfrm>
            <a:off x="457200" y="828720"/>
            <a:ext cx="1357200" cy="6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3324"/>
                </a:solidFill>
                <a:latin typeface="Arial"/>
                <a:ea typeface="Arial"/>
              </a:rPr>
              <a:t>Zašto neka tijela tonu, a druga n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TextBox 3"/>
          <p:cNvSpPr/>
          <p:nvPr/>
        </p:nvSpPr>
        <p:spPr>
          <a:xfrm>
            <a:off x="244440" y="4724280"/>
            <a:ext cx="8565840" cy="1191240"/>
          </a:xfrm>
          <a:prstGeom prst="rect">
            <a:avLst/>
          </a:prstGeom>
          <a:solidFill>
            <a:srgbClr val="fdeada"/>
          </a:solidFill>
          <a:ln w="9360">
            <a:solidFill>
              <a:srgbClr val="fcd5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ijelo pliva ako je njegova gustoća manja od gustoće tekući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ijelo tone na dno ako je njegova gustoća veća od gustoće tekući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7" name="Picture 5" descr=""/>
          <p:cNvPicPr/>
          <p:nvPr/>
        </p:nvPicPr>
        <p:blipFill>
          <a:blip r:embed="rId1"/>
          <a:stretch/>
        </p:blipFill>
        <p:spPr>
          <a:xfrm>
            <a:off x="1523880" y="1752480"/>
            <a:ext cx="2210040" cy="266724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7" descr=""/>
          <p:cNvPicPr/>
          <p:nvPr/>
        </p:nvPicPr>
        <p:blipFill>
          <a:blip r:embed="rId2"/>
          <a:stretch/>
        </p:blipFill>
        <p:spPr>
          <a:xfrm>
            <a:off x="4572000" y="1752480"/>
            <a:ext cx="2057400" cy="26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0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08T11:38:40Z</dcterms:created>
  <dc:creator>Slavko</dc:creator>
  <dc:description/>
  <dc:language>en-US</dc:language>
  <cp:lastModifiedBy>Tomislav Dumančić</cp:lastModifiedBy>
  <dcterms:modified xsi:type="dcterms:W3CDTF">2019-09-17T07:56:08Z</dcterms:modified>
  <cp:revision>74</cp:revision>
  <dc:subject/>
  <dc:title>Slide 1</dc:title>
</cp:coreProperties>
</file>